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D9AEE-36F8-45B1-956D-B7B3E2E40C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42B3D-8E15-48F0-8DB1-4862ADAD6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69A2CD-7C01-40B1-BB02-BF87B4A40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2D235-29B3-4F29-AABD-43B8C2CF8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2A4B6-796A-431A-B913-4A4C6F4E2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B15-87CA-4769-9A63-2E24B5F7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5C4-A095-4E79-99A4-00317036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A585-7CE1-4070-89E3-70C8649E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037-BB32-41AA-B85E-B999EDBC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7BFA-6AFE-4B5C-B71A-53380B05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B1DA-17EA-4138-A25E-2BD1E3F6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C55D-761C-4AB2-97FA-C7687A32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6292-B916-4BB8-9207-7528A8F2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91F1-407F-41AC-959F-97CF6551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AF90-D478-4785-8904-F2746481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706D-2526-4948-9234-452567E4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BB0-9C25-4A7E-878E-F2AAA20B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0FBB-8350-414F-9855-46A76401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2E84-827A-47B4-941F-358FC4A6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9A59-1755-4493-8EB7-565D3A80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41D4-F118-4AE0-8F88-8EB1929D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F9EC-C853-4E3B-BAAC-0546D693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46A6E-D2EF-4A16-97F2-FA61FFD6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A9588-5481-47B0-891C-63A58B0C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75FE3A-D9A5-496F-B6B0-22ABA77B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07377-E9C6-41FB-B1A5-A842E233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175B9-085B-4000-A5D2-4D2E6FB3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D86-25B3-46EB-9B7F-C8E9CB5B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EC309-F52B-4306-9845-F6C501E3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9527B-303E-4B1F-AF00-E5BFA609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50716-B565-4959-80E9-00E49438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F0C14-A40F-4E94-8AAB-52A75EDF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38DEF8-3332-457B-A4A7-D58F0759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0A868-F8C9-4D2F-8877-D06A5E59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D6A58-F291-4ADA-9339-050B2592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9F15B-9653-4491-925A-31A45F06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FE409-91AF-42A6-AB5B-E4293341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1C36A-6A3D-4DBD-BB2D-B1EC1FC2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662-413D-483E-89F4-E2029AB2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9ADCD-99EC-4CE4-8B6F-4A65B289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0E235-908D-431A-867F-4ABEA88B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3913B-1B7E-45C2-8C69-49827D09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244F5-3689-4BE3-99AC-3C431891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82D8C-AADF-46F0-9A7C-3FAFFD51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6D9A1-A157-4680-8ADD-D2B67CCA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87742-A8D6-488E-A6F7-BDA97BA9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2644E-CFA1-49CB-9E8A-9FED91E6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AD93E-48EB-416C-8597-1B28E5F8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CB1B7-AFD5-423E-A8E7-7BA8EBB7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C4CF-9B7F-4557-963B-BF5756D1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40B42-20EF-4BD8-B5E9-5AF2FF55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91CC34-86E0-433B-BECD-B83D14DF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A420D3-A0F7-439D-AE74-F0676E7B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FE7F52-E66B-4454-9F2E-274FA07B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AFD3A-5760-4641-B980-D43307B0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710DD-4E49-4313-82F8-CE767EFE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E98D62-E292-4B40-9BD2-D9FB37A9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316473-9977-4EAE-8693-DA2E1349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224A8-766F-4D5E-99E6-FE8DED4F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54263B-123C-47B4-BAE6-993E3CF2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4DD-2747-4804-A7E3-DBB38BFF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9E8020-0541-4A35-A811-6441F25F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0CE9BD-2F95-4435-9465-842BF80A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EF307A-F5EC-4BB1-9388-41A51E9F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EE938D-C3FE-4919-9B14-A028F67C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7106B-CFB0-4D90-A48E-19FC5878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71A725-1710-4641-B207-57273B59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569C67-7EB9-41A0-8684-8E212B65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49626-CAE0-4482-A3DA-E67B153B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4146F8-CB51-4D06-905A-5E1A3157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D91912-4EC5-4708-A010-4498C217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23E-440D-4F0C-81BF-2376CCBB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EA8364-8E73-44E4-B2DA-BB8A9871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DA3ADC-01B6-4B38-AE5D-A075A64D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2F3185-4D17-4D7A-927D-7ACBED35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5BD35F-636E-431C-B685-4EF18194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EA1255-2138-4BD8-BFF9-9ABC6CE8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068FFE-23B1-4502-91B5-C68763DE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9E36DD-1013-4C86-AABA-4A205CC4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4433C5-F9AB-45DA-85D8-5D57951D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317A4C-EE3E-45F9-9668-3C71E1F2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696506-A5EB-403C-B579-4BE0D998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56F-F356-4F73-AC15-5766B4DC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7B466A-804F-4FD6-A305-31BAEE1D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076862-6C01-43B6-97A2-481DBBD0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4F9A5-FA44-4B04-AFD2-4B34C871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609946-C089-4683-8241-0CC82538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4FB100-3008-47B5-9B10-5145C15E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0F1-39BA-48C0-A87C-D27EFD0F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6D1CB-BBFD-42F8-B39C-D33692714776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6AF78-C974-474F-8C99-DD7DE08621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729C4-8C1A-4D39-8B4A-2014BE7933CC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ED9AE-CFBF-43C1-B81A-6FDF53C37B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E074C-CE63-4F75-91EA-C7310FD61056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FC75A-825F-4A37-865A-EF9420D47F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2882C-3092-445C-B23D-429601934278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F3B55-D273-458A-B997-564949403B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17EE1-38E2-460A-927D-6118882D3AAC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88A36-A3D4-421B-A3D5-6D0CF21C6A2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42079-802F-4154-B9CF-D62423496B00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5A8DC-0A73-4020-B3CB-30D6225948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175CB-FA83-4CD5-85DF-14CEACF73622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270F5-FDEB-4C7E-9D30-9FF281D259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WEB-BASED BIOINFORMATICS PIPELINES FOR BIOLOGIS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ntegrative Services for Genomic Analysis (ISGA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hris Hemmeri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enter for Genomics and Bioformatic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ONTACT: biohelp@cgb.indiana.edu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GOA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Content Placeholder 3" descr="new-usage.eps"/>
          <p:cNvPicPr/>
          <p:nvPr/>
        </p:nvPicPr>
        <p:blipFill>
          <a:blip r:embed="rId1"/>
          <a:srcRect l="0" t="-565" r="0" b="-565"/>
          <a:stretch/>
        </p:blipFill>
        <p:spPr>
          <a:xfrm>
            <a:off x="457200" y="1600200"/>
            <a:ext cx="74674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ISGA: WHIRLWIND TOU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247680" y="0"/>
            <a:ext cx="8039160" cy="68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IPELINE CUSTOMIZ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toggle some clusters on/off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me clusters contain parallel programs that can be independently toggl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edit component parame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save customizations to use with later data se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IPELINE BUILD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5" name="Picture 4" descr="Screen shot 2010-01-14 at 10.01.40 AM.png"/>
          <p:cNvPicPr/>
          <p:nvPr/>
        </p:nvPicPr>
        <p:blipFill>
          <a:blip r:embed="rId1"/>
          <a:stretch/>
        </p:blipFill>
        <p:spPr>
          <a:xfrm>
            <a:off x="0" y="1417680"/>
            <a:ext cx="91440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UN STATU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6" descr="Screen shot 2010-01-14 at 10.03.31 AM.png"/>
          <p:cNvPicPr/>
          <p:nvPr/>
        </p:nvPicPr>
        <p:blipFill>
          <a:blip r:embed="rId1"/>
          <a:stretch/>
        </p:blipFill>
        <p:spPr>
          <a:xfrm>
            <a:off x="0" y="1079640"/>
            <a:ext cx="90043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 PIPELINE EXEC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writes configuration and pipeline definition files to the Ergatis install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then triggers execution through Ergatis and receives the pipeline id in retur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tus is updated directly from Ergatis XML fi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lected output is copied to ISGA, and the rest is available for download if need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 TOOLBOX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ludes a GBrowse instance for visualizing annotation resul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AST support for pipeline results as query or data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xt search against annotation resul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ols can be executed over SGE and monitor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DMINISTRATIVE TOO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ghtly monitor status in ISGA w/ link to Ergatis   p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tification when pipeline fails, ISGA will pick up a resumed pipe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redirect ISGA to a cloned Ergatis pipeline or cancel (w/ user notificatio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sable new job submiss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NDER THE HOO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1255680" y="3633840"/>
            <a:ext cx="5791320" cy="2895480"/>
          </a:xfrm>
          <a:prstGeom prst="rect">
            <a:avLst/>
          </a:prstGeom>
          <a:solidFill>
            <a:srgbClr val="fff39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1255680" y="1424160"/>
            <a:ext cx="5718240" cy="1914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 flipH="1" flipV="1">
            <a:off x="4760640" y="4776480"/>
            <a:ext cx="222120" cy="22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3998880" y="3328920"/>
            <a:ext cx="0" cy="29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0"/>
          <p:cNvSpPr/>
          <p:nvPr/>
        </p:nvSpPr>
        <p:spPr>
          <a:xfrm>
            <a:off x="3922560" y="531036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1640160" y="1881360"/>
            <a:ext cx="1875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peline build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ome brow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 pip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st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3"/>
          <p:cNvSpPr/>
          <p:nvPr/>
        </p:nvSpPr>
        <p:spPr>
          <a:xfrm>
            <a:off x="5711760" y="199548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2666880" y="149400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GA Web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26"/>
          <p:cNvGrpSpPr/>
          <p:nvPr/>
        </p:nvGrpSpPr>
        <p:grpSpPr>
          <a:xfrm>
            <a:off x="1484280" y="5005440"/>
            <a:ext cx="2597040" cy="983520"/>
            <a:chOff x="1484280" y="5005440"/>
            <a:chExt cx="2597040" cy="983520"/>
          </a:xfrm>
        </p:grpSpPr>
        <p:sp>
          <p:nvSpPr>
            <p:cNvPr id="406" name="Rectangle 5"/>
            <p:cNvSpPr/>
            <p:nvPr/>
          </p:nvSpPr>
          <p:spPr>
            <a:xfrm>
              <a:off x="1484280" y="5005440"/>
              <a:ext cx="2597040" cy="966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5"/>
            <p:cNvSpPr/>
            <p:nvPr/>
          </p:nvSpPr>
          <p:spPr>
            <a:xfrm>
              <a:off x="1523880" y="5377320"/>
              <a:ext cx="20653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oinformatics too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 and resul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7"/>
            <p:cNvSpPr/>
            <p:nvPr/>
          </p:nvSpPr>
          <p:spPr>
            <a:xfrm>
              <a:off x="1524960" y="5034240"/>
              <a:ext cx="196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hared 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4"/>
          <p:cNvSpPr/>
          <p:nvPr/>
        </p:nvSpPr>
        <p:spPr>
          <a:xfrm>
            <a:off x="3983040" y="1944720"/>
            <a:ext cx="2746440" cy="121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4073040" y="1944720"/>
            <a:ext cx="27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greSQ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4074480" y="2338560"/>
            <a:ext cx="218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peline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otation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29"/>
          <p:cNvGrpSpPr/>
          <p:nvPr/>
        </p:nvGrpSpPr>
        <p:grpSpPr>
          <a:xfrm>
            <a:off x="2855880" y="3786120"/>
            <a:ext cx="2450880" cy="965160"/>
            <a:chOff x="2855880" y="3786120"/>
            <a:chExt cx="2450880" cy="965160"/>
          </a:xfrm>
        </p:grpSpPr>
        <p:sp>
          <p:nvSpPr>
            <p:cNvPr id="413" name="Rectangle 7"/>
            <p:cNvSpPr/>
            <p:nvPr/>
          </p:nvSpPr>
          <p:spPr>
            <a:xfrm>
              <a:off x="2855880" y="3786120"/>
              <a:ext cx="2450880" cy="965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0"/>
            <p:cNvSpPr/>
            <p:nvPr/>
          </p:nvSpPr>
          <p:spPr>
            <a:xfrm>
              <a:off x="3210840" y="4110120"/>
              <a:ext cx="1945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ML configu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orkflow eng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21"/>
            <p:cNvSpPr/>
            <p:nvPr/>
          </p:nvSpPr>
          <p:spPr>
            <a:xfrm>
              <a:off x="3598560" y="378612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gat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Rectangle 6"/>
          <p:cNvSpPr/>
          <p:nvPr/>
        </p:nvSpPr>
        <p:spPr>
          <a:xfrm>
            <a:off x="4379760" y="5005440"/>
            <a:ext cx="2451240" cy="965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2"/>
          <p:cNvSpPr/>
          <p:nvPr/>
        </p:nvSpPr>
        <p:spPr>
          <a:xfrm>
            <a:off x="4602240" y="501804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 Grid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4610520" y="538632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ation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schedu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161160" y="607212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GA Bac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0"/>
          <p:cNvSpPr/>
          <p:nvPr/>
        </p:nvSpPr>
        <p:spPr>
          <a:xfrm flipV="1">
            <a:off x="3160080" y="4776480"/>
            <a:ext cx="222120" cy="22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STIFICATION AND HISTO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NDER THE HOOD (CONTINUED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l &amp; jQu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sistence = PostgreSQL &amp; YAML &amp; X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so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sonX::WebAp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cked up HTML::FormEng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DDING AN ERGATIS PIPELINE TO ISG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039160" cy="68119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4"/>
          <p:cNvSpPr/>
          <p:nvPr/>
        </p:nvSpPr>
        <p:spPr>
          <a:xfrm>
            <a:off x="5865840" y="0"/>
            <a:ext cx="32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4 Ergatis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IRST: UNDERSTAND THE PIPELIN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takes a description of an Ergatis pipe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YAM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tabase Schem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rgatis component .config fi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cument input and output of all compon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ich components are optional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user can upload previously generated data in their stead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lternative data from the pipeline can be used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pipeline is still useful without this functional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IMPLIFIC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ur microbial annotation pipeline is composed of 64 Ergatis compon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mpossible to diagram for you on a slide or for  a biologist on our web pag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y of these components are file format conversions, program iterations, database preparation, etc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y are not relevant to a high level view of the pipeline and offer no useful parameters for a biologist to customiz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USTERS OF ERGATIS COMPON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822960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reak the pipeline into biologically meaningful clusters of one or more component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is is as much art as science, may depend on your audie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ample: ‘Alternative Start Site Analysis’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3" name="TextBox 3" descr=""/>
          <p:cNvPicPr/>
          <p:nvPr/>
        </p:nvPicPr>
        <p:blipFill>
          <a:blip r:embed="rId1"/>
          <a:stretch/>
        </p:blipFill>
        <p:spPr>
          <a:xfrm>
            <a:off x="450720" y="4309920"/>
            <a:ext cx="82425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MPONENT CUSTOMIZ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cripts and XML files are unchang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stores the configuration template for each compon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onents with editable parameters have a YAML definition that is used to build the web for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se values are incorporated into the configuration templ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MPONENT TEMPL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-- !perl/ISGA::ComponentBuild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ame: RNAmmer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scription: ‘RNAmmerpredicts 5s/8s, 16s/18s, and …’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arams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 { templ: 'select', NAME: 'molecules', TITLE: 'rRNA Molecules', REQUIRED: 1, OPTION: ['ssu (5/8s rRNA)', 'lsu (16 /18s rRNA)', 'tsu (23/28s rRNA)', 'ssu and lsu', …], OPT_VAL: ['ssu' , 'lsu', 'tsu', 'ssu,lsu’, …], VALUE: 'ssu,lsu,tsu', DESCRIPTION: 'Declare what rRNA molecule types to search for.', </a:t>
            </a:r>
            <a:r>
              <a:rPr b="0" lang="en-US" sz="2200" spc="-1" strike="noStrike">
                <a:solidFill>
                  <a:srgbClr val="0000ff"/>
                </a:solidFill>
                <a:latin typeface="Century Schoolbook"/>
              </a:rPr>
              <a:t>CONFIGLINE: '___molecule___’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unBuilderParams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 { templ: 'hidden', NAME: 'project_id_root', TITLE: 'Project Id Root', REQUIRED: 1, DESCRIPTION: 'The Id root used in bsml id generation', </a:t>
            </a:r>
            <a:r>
              <a:rPr b="0" lang="en-US" sz="2200" spc="-1" strike="noStrike">
                <a:solidFill>
                  <a:srgbClr val="0000ff"/>
                </a:solidFill>
                <a:latin typeface="Century Schoolbook"/>
              </a:rPr>
              <a:t>CONFIGLINE: '___project_id_root___'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UTURE ISGA 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orporate additional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mall prokaryotic assembly pipelin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arative genom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unctional genom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d additional featu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ke pipelines modular components of ISG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mplement pipeline version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ipeline and data shar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rgatis Cloud Suppor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2" name="Picture 4" descr="Chris_Hemmerich"/>
          <p:cNvPicPr/>
          <p:nvPr/>
        </p:nvPicPr>
        <p:blipFill>
          <a:blip r:embed="rId1"/>
          <a:stretch/>
        </p:blipFill>
        <p:spPr>
          <a:xfrm>
            <a:off x="2209680" y="2666880"/>
            <a:ext cx="1462320" cy="18273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Aaron_Buechlein"/>
          <p:cNvPicPr/>
          <p:nvPr/>
        </p:nvPicPr>
        <p:blipFill>
          <a:blip r:embed="rId2"/>
          <a:stretch/>
        </p:blipFill>
        <p:spPr>
          <a:xfrm>
            <a:off x="457200" y="2666880"/>
            <a:ext cx="1417680" cy="18306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Qunfeng_Dong"/>
          <p:cNvPicPr/>
          <p:nvPr/>
        </p:nvPicPr>
        <p:blipFill>
          <a:blip r:embed="rId3"/>
          <a:stretch/>
        </p:blipFill>
        <p:spPr>
          <a:xfrm>
            <a:off x="7162920" y="2666880"/>
            <a:ext cx="1461960" cy="182880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8"/>
          <p:cNvSpPr/>
          <p:nvPr/>
        </p:nvSpPr>
        <p:spPr>
          <a:xfrm>
            <a:off x="7089840" y="47242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nfeng D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3746160" y="472428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shi Reva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1984320" y="510552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Hemme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156240" y="47242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ron Buechl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2" descr="Ram"/>
          <p:cNvPicPr/>
          <p:nvPr/>
        </p:nvPicPr>
        <p:blipFill>
          <a:blip r:embed="rId4"/>
          <a:stretch/>
        </p:blipFill>
        <p:spPr>
          <a:xfrm>
            <a:off x="5562720" y="2666880"/>
            <a:ext cx="1434960" cy="182268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13"/>
          <p:cNvSpPr/>
          <p:nvPr/>
        </p:nvSpPr>
        <p:spPr>
          <a:xfrm>
            <a:off x="5565960" y="51055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m Podich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6" descr="Kashi_Vishwanath_Revanna"/>
          <p:cNvPicPr/>
          <p:nvPr/>
        </p:nvPicPr>
        <p:blipFill>
          <a:blip r:embed="rId5"/>
          <a:stretch/>
        </p:blipFill>
        <p:spPr>
          <a:xfrm>
            <a:off x="3886200" y="2666880"/>
            <a:ext cx="15303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 BACKGROUN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rovide a high-throughput microbial annotation service to local biologis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Reliable and pipelined execu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Efficient maintena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Provide privacy and security for dat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gh-quality (automated) annot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iologists able to customize paramet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ble to incorporate new programs and pipeli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ERGATIS (ERGATIS.SOURCEFORGE.NET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4880"/>
            <a:ext cx="82281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eb-based analysis pipeline to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raps tools and utilities in “component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bility to add new compon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Build new and customize existing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n-depth monitoring of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Underlying Workflow package supports S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XML/BSML common data exchange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ncludes prokaryotic annotation pipe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RGATIS WORKFLOW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Content Placeholder 6" descr="ergatis-dia1.eps"/>
          <p:cNvPicPr/>
          <p:nvPr/>
        </p:nvPicPr>
        <p:blipFill>
          <a:blip r:embed="rId1"/>
          <a:srcRect l="0" t="-16380" r="54685" b="-16380"/>
          <a:stretch/>
        </p:blipFill>
        <p:spPr>
          <a:xfrm>
            <a:off x="2471760" y="1600200"/>
            <a:ext cx="33843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 SLIGHT CORR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Content Placeholder 4" descr="ergatis-dia1.eps"/>
          <p:cNvPicPr/>
          <p:nvPr/>
        </p:nvPicPr>
        <p:blipFill>
          <a:blip r:embed="rId1"/>
          <a:srcRect l="44693" t="-16380" r="0" b="-16380"/>
          <a:stretch/>
        </p:blipFill>
        <p:spPr>
          <a:xfrm>
            <a:off x="2260440" y="1600200"/>
            <a:ext cx="4131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Y NOT EXPOSE ERGAT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sufficient accounts and permiss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red interface for building and customizing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rs must submit and retrieve results through filesyst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ipeline monitoring interface is slow and complex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formation of use to biologists is lost in “nois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igh umber of components in a pipelin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lexity of configuration interfa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503360" y="0"/>
            <a:ext cx="67914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2"/>
          <p:cNvSpPr/>
          <p:nvPr/>
        </p:nvSpPr>
        <p:spPr>
          <a:xfrm>
            <a:off x="1503360" y="1801800"/>
            <a:ext cx="6791400" cy="1230480"/>
          </a:xfrm>
          <a:prstGeom prst="rect">
            <a:avLst/>
          </a:prstGeom>
          <a:solidFill>
            <a:srgbClr val="ff0000">
              <a:alpha val="13000"/>
            </a:srgbClr>
          </a:solidFill>
          <a:ln w="12600">
            <a:solidFill>
              <a:srgbClr val="ff6903"/>
            </a:solidFill>
            <a:miter/>
          </a:ln>
          <a:effectLst>
            <a:outerShdw dist="20160" dir="54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UR SOL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velop an alternative interface for biologists that uses the Ergatis backe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dministrators also use Ergati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interface featu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ccounts and permission syst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ile manage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implify pipelines and component management by reducing functional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ovide form validation, documentation and other features to improve usabil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4419720" y="3378240"/>
            <a:ext cx="304560" cy="1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19:32Z</dcterms:created>
  <dc:creator>Chris</dc:creator>
  <dc:description/>
  <dc:language>en-US</dc:language>
  <cp:lastModifiedBy>Chris</cp:lastModifiedBy>
  <dcterms:modified xsi:type="dcterms:W3CDTF">2010-01-15T23:15:04Z</dcterms:modified>
  <cp:revision>12</cp:revision>
  <dc:subject/>
  <dc:title>Slide 1</dc:title>
</cp:coreProperties>
</file>